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1D01-B313-438A-9FCF-8B73468F3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04EA-D4EA-4C78-94BF-531CA8A5E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4A5B-0B2C-4CCF-ADD1-A677FFBD8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4C5B-261A-4167-BB1D-9281B6F4B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F1C5-2B41-45B8-92F7-D4DBA7D6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180D-55FA-48AD-9FE0-8C2D25A6F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F389-5450-4DBF-80C9-4CF317C0C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B37C-9EB6-4600-B064-CF3B4CA45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C127-D17F-4A06-9EFB-DA46A9965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86AA-5FB3-4B84-B3E1-F2BBAFA6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C59B-96A4-49EC-8A53-620421E7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8281-35F2-467C-BE2E-F47293E8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63D75-D79F-468B-8C91-960CD120E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Will Need to K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naissance – A European cultural movement where there was growth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62520" y="2895480"/>
            <a:ext cx="4343400" cy="30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onardo da Vin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tually, Leonardo’s works will be considered some of the best 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4120" y="1752480"/>
            <a:ext cx="27637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w many of you have ever heard of Leonar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y is he fam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505320" y="3276720"/>
            <a:ext cx="2009520" cy="30477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964680" y="632448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57200" y="4038480"/>
            <a:ext cx="2009880" cy="2276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01080" y="628488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this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477120" y="3886200"/>
            <a:ext cx="1847880" cy="2476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784200" y="632448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this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1920" y="1523520"/>
            <a:ext cx="4953240" cy="215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onardo da Vinci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naissance M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38080" y="4571640"/>
            <a:ext cx="3657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105520" y="609480"/>
            <a:ext cx="3830400" cy="53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onardo da Vin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onardo da Vinci came to Florence in 1466, during the Renaiss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31161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onardo da Vin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onardo will produce some of the world’s best known pain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486400" y="1600200"/>
            <a:ext cx="2841480" cy="4419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644080" y="6019920"/>
            <a:ext cx="242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eonardo’s Mona Li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onardo da Vin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ch of Leonardo’s work survives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studi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ine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tron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much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191120" y="2362320"/>
            <a:ext cx="457200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onardo da Vin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26672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onardo was one of the first to cut up dead people to see how the body work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sounds gross, but a lot was learn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3116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onardo da Vin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experimented with new ways of pai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5486400" cy="3024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747880" y="5867280"/>
            <a:ext cx="305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onardo’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he Last Su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onardo da Vin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fortunately, when he died, Leonardo thought of himself as a fail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334120" y="1752480"/>
            <a:ext cx="27637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1T02:24:41Z</dcterms:created>
  <dc:creator>IM</dc:creator>
  <dc:description/>
  <dc:language>en-US</dc:language>
  <cp:lastModifiedBy>San Diego City Schools</cp:lastModifiedBy>
  <dcterms:modified xsi:type="dcterms:W3CDTF">2012-04-17T14:26:34Z</dcterms:modified>
  <cp:revision>4</cp:revision>
  <dc:subject/>
  <dc:title>You Will Need to Know</dc:title>
</cp:coreProperties>
</file>